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30B-8B19-46E2-84CE-F66DB80A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EED-F245-45ED-BA63-13C4DC44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479-D834-4B0A-B292-4453C7A0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0D2-6640-482D-B41E-30D61744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42B-2B95-4773-B4DB-C69127AE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095-8906-442D-94B9-505FA39E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B7C-88CA-426C-B1B4-67166458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B4C-8658-493E-AC30-61633197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C0B-1A9B-433B-9EA1-5CC82D66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B82-2C5D-41A6-BDAC-1970E310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73C-D1D1-44DD-8F5F-CA8C6726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CEB-0868-490E-8384-64BFF530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2B88-7004-4DBF-9CD0-0D2413E24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terms for B cell in Cel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ly divided into immature and mature sub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us term ‘B cell’ is the parent term for all types of B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cell considered a distinct cell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cell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: CL:0000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B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n immunoglobulin complex." [GOC:add, ISBN:07817351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ct_synonym: "B lymphocyte"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ct_synonym: "B-cell"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ct_synonym: "B-lymphocyte"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lationship: develops_from CL:0000826 ! pro-B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6068880" cy="6369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cel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pro-B cell and late pro-B cells, and pre-pro B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of pre B cell and transitional stage B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B cell sub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34:07Z</dcterms:created>
  <dc:creator>Alexander Diehl</dc:creator>
  <dc:description/>
  <dc:language>en-US</dc:language>
  <cp:lastModifiedBy>Alexander Diehl</cp:lastModifiedBy>
  <dcterms:modified xsi:type="dcterms:W3CDTF">2008-05-13T01:20:43Z</dcterms:modified>
  <cp:revision>11</cp:revision>
  <dc:subject/>
  <dc:title>The Cell Ontology</dc:title>
</cp:coreProperties>
</file>